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7BF-1244-4F1B-B073-2F428472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BB7-2FCD-4015-A899-417D384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F4D-50A3-49CB-BE93-D9185EC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2A9-ACF4-44DD-B346-51C140A4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0DD-7324-410F-97E0-275B618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EFD-C8E3-4E27-801C-FCD9B344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837-7C39-41AF-84A9-0D71C734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3C3-2AE4-4E82-AEB8-5A97034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CA0-770E-4BA9-88D1-043DB023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D04-B187-4A69-A0BD-AD5CA73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A22-F922-42D1-8FF3-CD14726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BEB-26BC-4AE1-B302-A939B36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98D-220D-4493-BD35-94C5180A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60b"/>
                </a:solidFill>
                <a:latin typeface="Times New Roman"/>
              </a:rPr>
              <a:t>Résonance magnétique nucléaire et imagerie médi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llaume Gil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é de Montréal - PHY14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 mars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0477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Basculement du moment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se déplace maintenant dans un référentiel en rotation, dont l’origine coïncide avec le référentiel du laborat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effectuant les transformations de coordonnées, on trouve que l’équation du mouvement dans ce référentiel prend la for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25909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Basculement du moment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3581640" cy="86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295640" cy="44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1143000" cy="47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00400" y="3352680"/>
            <a:ext cx="2743200" cy="88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7040" y="1752480"/>
            <a:ext cx="48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 on définit le champ magnétique com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209680"/>
            <a:ext cx="58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t le vecteur de vitesse angulaire du référentiel co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59092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équation du mouvement du moment magnétique, dans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éférentiel en rotation, prend la for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477120" y="4343400"/>
            <a:ext cx="1218960" cy="482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3440" y="4419720"/>
            <a:ext cx="59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 on ajoute maintenant un second champ exprimé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800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équation du mouvement 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Basculement du moment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angle de basculement dépend à la fois de l’intensité du champ secondaire et de la durée de l’appl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1600200" cy="41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8600" y="4038480"/>
            <a:ext cx="427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ur les champ principaux utilis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imagerie médicale (1.5T - 3T),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équence du champ de bascu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situe dans le domaine radio.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mme souvent ce champ « pu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fréquence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43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Magnétisation d’un volume macroscop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1523880" cy="80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1981080" cy="90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5638680"/>
            <a:ext cx="3429000" cy="849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0320" y="1859040"/>
            <a:ext cx="81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définit la magnétisation d’un volume macroscopique comme la so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orielle des moments magnétiques contenus (principe de superpositio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7600" y="335268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équation du mouvement de la magnétisation conserve la même for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0120" y="4876920"/>
            <a:ext cx="54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appliquant un champ magnétique de la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3320" y="51814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tte équation 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01680" y="4602240"/>
            <a:ext cx="2391480" cy="2042640"/>
            <a:chOff x="4801680" y="4602240"/>
            <a:chExt cx="2391480" cy="2042640"/>
          </a:xfrm>
        </p:grpSpPr>
        <p:sp>
          <p:nvSpPr>
            <p:cNvPr id="144" name=""/>
            <p:cNvSpPr/>
            <p:nvPr/>
          </p:nvSpPr>
          <p:spPr>
            <a:xfrm>
              <a:off x="6122880" y="5000760"/>
              <a:ext cx="333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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1680" y="6248520"/>
              <a:ext cx="41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37640" y="4602240"/>
              <a:ext cx="337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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38000" y="4859280"/>
              <a:ext cx="28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Times New Roman"/>
                </a:rPr>
                <a:t>B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72720" y="482112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1520" y="485928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69880" y="5065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5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560" y="4832280"/>
              <a:ext cx="192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Times New Roman"/>
                </a:rPr>
                <a:t>ˆ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80400" y="4859280"/>
              <a:ext cx="210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Times New Roman"/>
                </a:rPr>
                <a:t>z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Magnétisation d’un volume macroscop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14300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210040" cy="86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2133720" cy="46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73200" y="1905120"/>
            <a:ext cx="764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tte même équation peut s’exprimer sous la forme de deux é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écouplé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760" y="4465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7680" y="4495680"/>
            <a:ext cx="40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 la composante de la magnét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7560" y="487692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pendiculaire au champ magnétique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s entre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qu’à maintenant, les interactions entre les protons voisins ont été négligées dans un but de simpli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s interactions jouent cependant un rôle essentiel dans le phénomène de résonance magnétique car elles sont responsables du contraste pouvant être obtenu entre les différents tis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distingue généralement deux types d’interactions: l’interaction spin-réseau (relaxation longitudinale) et l’interaction spin-spin (relaxation transver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s deux interactions entraînent une modification des équations découplées du mou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s entre protons </a:t>
            </a:r>
            <a:br>
              <a:rPr sz="4000"/>
            </a:b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Relaxation longitudinale (T</a:t>
            </a:r>
            <a:r>
              <a:rPr b="0" lang="en-US" sz="4000" spc="-1" strike="noStrike" baseline="-25000">
                <a:solidFill>
                  <a:srgbClr val="ff760b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interaction spin-réseau entraîne un retour à l’équilibre de la magnétisation longitudinale. L’équation du mouvement 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4114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2209680" cy="714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3520" y="5105520"/>
            <a:ext cx="4190760" cy="426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8520" y="44956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tte équation possède la 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s entre protons </a:t>
            </a:r>
            <a:br>
              <a:rPr sz="4000"/>
            </a:b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Relaxation transverse (T</a:t>
            </a:r>
            <a:r>
              <a:rPr b="0" lang="en-US" sz="4000" spc="-1" strike="noStrike" baseline="-25000">
                <a:solidFill>
                  <a:srgbClr val="ff760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505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 déphasage engendré par l’interaction spin-spin provoque une décroissance de la magnétisation transv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seconde équation découplée 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312444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s entre protons</a:t>
            </a:r>
            <a:br>
              <a:rPr sz="4000"/>
            </a:b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Temps de rela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981080"/>
          <a:ext cx="7543800" cy="3222720"/>
        </p:xfrm>
        <a:graphic>
          <a:graphicData uri="http://schemas.openxmlformats.org/drawingml/2006/table">
            <a:tbl>
              <a:tblPr/>
              <a:tblGrid>
                <a:gridCol w="3624120"/>
                <a:gridCol w="1995480"/>
                <a:gridCol w="192420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s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ière gr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ière bl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uide céphalo-rachidi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i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g vein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g arté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Détection du signal de R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détection d’un signal de RMN s’effectue grâce à une antenne, selon la loi de l’induction de Fara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1371600" cy="698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152424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79680" y="5029200"/>
            <a:ext cx="42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e la magnétisation trans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e très rapidement,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ibution domine le signal cap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Plan de la pré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tude classique du phénomène de résonance magnétique nuclé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 de détection du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médicale de l’imagerie par résonance magné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éfis actuels et recherche effectuée au CH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magerie par résonance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imagerie par résonance magnétique utilise le contraste de RMN pouvant être obtenu entre différents tissus afin de créer des images médi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localisation spatiale du signal s’effectue en faisant varier spatialement le champ magnétique, ce qui engendre une variation de la fréquence de préc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733920" cy="3643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947120" y="573876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iemens Medical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Recherche en IRM réalisée au CH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ention en 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éveloppement d’antennes multi-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ques de combinaison des sign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sion d’images de plusieurs modalités (ex: X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ation de structures anat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M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343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Recherche en IRM réalisée au CH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52880" y="4572000"/>
            <a:ext cx="285912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Pour en savoir plu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érence du vendredi 30 mar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Nouvelles technologies en imagerie par résonance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lles Beaud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h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G-4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RMN - Approche clas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 s’agit d’une description macroscopique du phénomène de résonance magnétique nucléaire, ne faisant pas appel à la théorie de la mécanique quant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en qu’il s’agisse d’une simplification de la réalité, cette approche permet de dériver la majorité des résultats importants de façon plus intu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 entre un moment magnétique et un champ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force magnétique exerc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 une charge est donnée 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expression de Loren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9960" y="361152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9880"/>
            <a:ext cx="3429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particulier, la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rcée sur chaque segment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’une boucle de coura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nd la for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0200" y="5257800"/>
            <a:ext cx="18288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 entre un moment magnétique et un champ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 torque exercé sur le segment de boucle est donné par l’expression class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391520" y="2514600"/>
            <a:ext cx="3961080" cy="47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350532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 les propriétés du double produit vectoriel, cette équation 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6019560" cy="48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6880" y="2666880"/>
            <a:ext cx="41911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 entre un moment magnétique et un champ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utilisant les transformations entre les systèmes de coordonné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2438280" cy="1301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441972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obt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2819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Interaction entre un moment magnétique et un champ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intègre sur une rotation complète de l’angl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our obte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040" y="3505320"/>
            <a:ext cx="822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tant donné que le moment magnétique d’une boucle de courant est orien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façon perpendiculaire au plan de la boucle et est donné p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6640" y="5059440"/>
            <a:ext cx="80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constate que le torque appliqué tend à aligner le moment magnét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la boucle avec le champ magnétique exter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362320" cy="3747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2530080" y="4059360"/>
            <a:ext cx="2481120" cy="1961640"/>
            <a:chOff x="2530080" y="4059360"/>
            <a:chExt cx="2481120" cy="1961640"/>
          </a:xfrm>
        </p:grpSpPr>
        <p:sp>
          <p:nvSpPr>
            <p:cNvPr id="73" name=""/>
            <p:cNvSpPr/>
            <p:nvPr/>
          </p:nvSpPr>
          <p:spPr>
            <a:xfrm>
              <a:off x="3859200" y="4386240"/>
              <a:ext cx="333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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0080" y="5624640"/>
              <a:ext cx="41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440" y="4059360"/>
              <a:ext cx="337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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1120" y="4208400"/>
              <a:ext cx="357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73840" y="420840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64360" y="424656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Times New Roman"/>
                </a:rPr>
                <a:t>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2040" y="4219560"/>
              <a:ext cx="192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600" spc="-1" strike="noStrike">
                  <a:solidFill>
                    <a:srgbClr val="ffffff"/>
                  </a:solidFill>
                  <a:latin typeface="Times New Roman"/>
                </a:rPr>
                <a:t>ˆ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2080" y="4246560"/>
              <a:ext cx="249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600" spc="-1" strike="noStrike">
                  <a:solidFill>
                    <a:srgbClr val="ffffff"/>
                  </a:solidFill>
                  <a:latin typeface="Times New Roman"/>
                </a:rPr>
                <a:t>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Précession du moment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914400" cy="74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1066680" cy="56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95680" y="3962520"/>
            <a:ext cx="1600200" cy="55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1523880" cy="73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8920" y="1935000"/>
            <a:ext cx="75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application d’un torque entraîne une variation du moment ang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4040" y="3200400"/>
            <a:ext cx="72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ns le cas d’un proton sans moment angulaire orbital, nous av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galement les rel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0240" y="4572000"/>
            <a:ext cx="73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ù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.675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/s/T est la constante gyromagnétique du prot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obtient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114800" y="5410080"/>
            <a:ext cx="38862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60b"/>
                </a:solidFill>
                <a:latin typeface="Times New Roman"/>
              </a:rPr>
              <a:t>Précession du moment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façon graphique, on trouve éga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08760" y="1981080"/>
            <a:ext cx="2340000" cy="425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1143000" cy="753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43000" y="5943600"/>
            <a:ext cx="182880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6800" y="3124080"/>
            <a:ext cx="526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comparant les deux expressions, on ob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équation du mouvement du mo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gné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952880"/>
            <a:ext cx="51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ur un champ uniforme, statique et orien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on l’axe z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cette é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81280" y="5943600"/>
            <a:ext cx="1295640" cy="4222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330640" y="4327560"/>
            <a:ext cx="2156760" cy="1950840"/>
            <a:chOff x="2330640" y="4327560"/>
            <a:chExt cx="2156760" cy="1950840"/>
          </a:xfrm>
        </p:grpSpPr>
        <p:sp>
          <p:nvSpPr>
            <p:cNvPr id="99" name=""/>
            <p:cNvSpPr/>
            <p:nvPr/>
          </p:nvSpPr>
          <p:spPr>
            <a:xfrm>
              <a:off x="2330640" y="5851440"/>
              <a:ext cx="45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06840" y="4327560"/>
              <a:ext cx="244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64960" y="43275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5520" y="4327560"/>
              <a:ext cx="201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70320" y="43689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13080" y="5103720"/>
            <a:ext cx="1871280" cy="1599120"/>
            <a:chOff x="1513080" y="5103720"/>
            <a:chExt cx="1871280" cy="1599120"/>
          </a:xfrm>
        </p:grpSpPr>
        <p:sp>
          <p:nvSpPr>
            <p:cNvPr id="105" name=""/>
            <p:cNvSpPr/>
            <p:nvPr/>
          </p:nvSpPr>
          <p:spPr>
            <a:xfrm>
              <a:off x="2552760" y="54165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13080" y="639756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57800" y="5103720"/>
              <a:ext cx="25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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7080" y="5307120"/>
              <a:ext cx="22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39960" y="52768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6120" y="53071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1640" y="546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34240" y="528480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Times New Roman"/>
                </a:rPr>
                <a:t>ˆ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16960" y="5307120"/>
              <a:ext cx="163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ffffff"/>
                  </a:solidFill>
                  <a:latin typeface="Times New Roman"/>
                </a:rPr>
                <a:t>z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11280" y="2492280"/>
                <a:ext cx="2168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8:09:25Z</dcterms:created>
  <dc:creator>Guillaume Gilbert</dc:creator>
  <dc:description/>
  <dc:language>en-US</dc:language>
  <cp:lastModifiedBy>u222524</cp:lastModifiedBy>
  <dcterms:modified xsi:type="dcterms:W3CDTF">2007-03-27T19:31:02Z</dcterms:modified>
  <cp:revision>127</cp:revision>
  <dc:subject/>
  <dc:title>Résonance magnétique nucléaire et imagerie médicale</dc:title>
</cp:coreProperties>
</file>